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8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54640" cy="4308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4144680" y="9119880"/>
            <a:ext cx="3159000" cy="468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B0839-6F66-4912-BDAE-5365023A82A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D036E-7DD1-43C4-92D7-3581440C6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44FF6-3823-44DF-879D-193265EEF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B4CDC-D502-443B-8ABC-570B19690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AF480-B8F6-40F6-9A6D-53FB43320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B3497-4D74-4D1B-9126-D814FA8F0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61760-BEA2-41F2-B378-A693ACCED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930E0-96AF-4E0D-B269-0A5440D67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B553D-200B-4C3D-AEB0-ACDB76411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BF7C6-48A6-4C93-B6DE-FDABB7172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17696-1515-453B-B535-451F95A50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94CAE-9461-4F13-B01F-23A6EC071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4F0D-9354-4630-AC44-943B11B3C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452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8542-BD52-42E8-91E0-D3BE2567F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45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41245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3B4B-ECEE-46C2-9684-2AC135E1E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480" y="19807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3520" y="19807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45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480" y="41245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3520" y="41245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3944-F719-497F-8C5A-545438D84D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2A08-8A0F-4829-A318-693CFEE5D7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15EE-F972-44D3-80AE-87AF8CB3F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98072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84A9-4AE5-4EE7-AA40-C42263019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3BB8-7847-4AA4-BE3F-05CF6C217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12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86C3-376A-419A-B859-EC38D7BD6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98072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45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97EF-9691-44E0-9EB2-46391D7A4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41245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3E78-7683-4608-95B5-F9649AD3D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452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4CE9-6AFF-4E63-8DAE-C5A362A80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8320" indent="-328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4320" indent="-271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74954-E32C-4392-A2F4-BCD40C1FB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430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pperplate Gothic Bold"/>
              </a:rPr>
              <a:t>PBL</a:t>
            </a: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50292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for the 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Examining th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62120"/>
            <a:ext cx="38862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37160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Review of Sample Assessment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Sound Project Instrument Design Dir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38080"/>
            <a:ext cx="22096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2233440" cy="2962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914400" y="1600200"/>
            <a:ext cx="5486400" cy="3657600"/>
          </a:xfrm>
          <a:prstGeom prst="roundRect">
            <a:avLst>
              <a:gd name="adj" fmla="val 4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List and begin to develop your </a:t>
            </a:r>
            <a:r>
              <a:rPr b="1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major group product(s)</a:t>
            </a:r>
            <a:r>
              <a:rPr b="1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List and begin to develop your </a:t>
            </a:r>
            <a:r>
              <a:rPr b="1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major individual product(s)</a:t>
            </a:r>
            <a:r>
              <a:rPr b="1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List the </a:t>
            </a:r>
            <a:r>
              <a:rPr b="1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Presentation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Create a list of project rub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Begin to develop your project rub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52480" y="762120"/>
            <a:ext cx="56772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86200" y="13716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tting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71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ning &amp; Prep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53341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d6decf"/>
                </a:solidFill>
                <a:latin typeface="Calibri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581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d6decf"/>
                </a:solidFill>
                <a:latin typeface="Calibri"/>
              </a:rPr>
              <a:t>Reflect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68480" y="3886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d6decf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lanning and Prep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38098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733920"/>
            <a:ext cx="3504960" cy="2971800"/>
          </a:xfrm>
          <a:prstGeom prst="foldedCorner">
            <a:avLst>
              <a:gd name="adj" fmla="val 12500"/>
            </a:avLst>
          </a:prstGeom>
          <a:solidFill>
            <a:srgbClr val="b9d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3733920"/>
            <a:ext cx="3657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try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lminating products/rub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ing &amp; learn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iv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udent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ject calendar/check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ange/create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3049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Best practices </a:t>
            </a: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in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62120"/>
            <a:ext cx="5410080" cy="7596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9320"/>
            <a:ext cx="70866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rich descriptors of</a:t>
            </a:r>
            <a:r>
              <a:rPr b="1" lang="en-US" sz="2000" spc="-1" strike="noStrike">
                <a:solidFill>
                  <a:srgbClr val="bb88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iteria for yo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 students with assessment crite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the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 exemplars of quality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formative assessments to give timely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ture process as well as product (e.g., work folders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d, as a schoo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common, calibrated rubrics; establish school-w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iteria for 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31334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" name=""/>
          <p:cNvCxnSpPr/>
          <p:nvPr/>
        </p:nvCxnSpPr>
        <p:spPr>
          <a:xfrm>
            <a:off x="2590560" y="3505320"/>
            <a:ext cx="4343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"/>
          <p:cNvCxnSpPr>
            <a:stCxn id="74" idx="2"/>
            <a:endCxn id="75" idx="0"/>
          </p:cNvCxnSpPr>
          <p:nvPr/>
        </p:nvCxnSpPr>
        <p:spPr>
          <a:xfrm>
            <a:off x="4776840" y="2565360"/>
            <a:ext cx="24480" cy="213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6" name=""/>
          <p:cNvCxnSpPr/>
          <p:nvPr/>
        </p:nvCxnSpPr>
        <p:spPr>
          <a:xfrm flipH="1">
            <a:off x="2971080" y="1979640"/>
            <a:ext cx="3810600" cy="2821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/>
          <p:nvPr/>
        </p:nvCxnSpPr>
        <p:spPr>
          <a:xfrm>
            <a:off x="2895480" y="2057040"/>
            <a:ext cx="3813840" cy="289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228600" y="4572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 critical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14400"/>
            <a:ext cx="35053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95280" y="16765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05040" y="502920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ividual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58200" y="32767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c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8400" y="320040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ss Foc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entury Skills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9280" y="55767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73480" y="14479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mm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92960" y="16765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f &amp; Peer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9560" y="49528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cher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68880" y="1906560"/>
            <a:ext cx="86544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352680" y="2743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65640" y="3352680"/>
            <a:ext cx="174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ed P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665440" y="4421160"/>
            <a:ext cx="86508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471920" y="1700280"/>
            <a:ext cx="609840" cy="86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495680" y="4697280"/>
            <a:ext cx="609840" cy="865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2182680" y="3200400"/>
            <a:ext cx="86544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6629400" y="3200400"/>
            <a:ext cx="8650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2666880" y="1905120"/>
            <a:ext cx="86544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6197760" y="4367160"/>
            <a:ext cx="6094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3808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ubrics </a:t>
            </a: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in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8080"/>
            <a:ext cx="26668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371600"/>
            <a:ext cx="76960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rubric for each major product i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e rubrics (or rows) for cont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nowledge/skills and 21st century skill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lists and rubrics – there is a big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2562480" cy="233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3808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Grading in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838080"/>
            <a:ext cx="26668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752480"/>
            <a:ext cx="693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ve a grade for each product, not one gr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the whol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x of individual and group 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parate grades for content and 2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entu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315200" y="196920"/>
            <a:ext cx="1895400" cy="18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3808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Disaggreg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38080"/>
            <a:ext cx="36576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209680"/>
            <a:ext cx="1371600" cy="609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209680"/>
            <a:ext cx="1371600" cy="609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2209680"/>
            <a:ext cx="1371600" cy="609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2209680"/>
            <a:ext cx="1371600" cy="609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2209680"/>
            <a:ext cx="1371600" cy="609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81952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281952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81952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281952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281952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4290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34290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34290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4290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4290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20968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 Eth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22096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ten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209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2194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32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Nick P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517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Rick Lop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2895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12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2895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22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895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21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2895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18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505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25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3505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15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505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18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3505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25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895400" cy="18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895760" cy="1860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ys to asses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914400"/>
            <a:ext cx="49528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90720" y="1143000"/>
            <a:ext cx="7011720" cy="4443480"/>
            <a:chOff x="990720" y="1143000"/>
            <a:chExt cx="7011720" cy="4443480"/>
          </a:xfrm>
        </p:grpSpPr>
        <p:sp>
          <p:nvSpPr>
            <p:cNvPr id="142" name=""/>
            <p:cNvSpPr/>
            <p:nvPr/>
          </p:nvSpPr>
          <p:spPr>
            <a:xfrm>
              <a:off x="3425760" y="4824360"/>
              <a:ext cx="45752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urnal, log, written report / ref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24360"/>
              <a:ext cx="24350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-solv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5760" y="3333600"/>
              <a:ext cx="457524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 l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ily / weekly goal she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 lo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ritten ref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0720" y="3333600"/>
              <a:ext cx="243504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ject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5760" y="1903320"/>
              <a:ext cx="45752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elf repor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 journal, log, surv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eer repor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 survey or written ref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eacher note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 observation checklist, meetings with lea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720" y="1903320"/>
              <a:ext cx="24350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abo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5760" y="1143000"/>
              <a:ext cx="45752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essment metho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991827"/>
                  </a:solidFill>
                  <a:latin typeface="Times New Roman"/>
                </a:rPr>
                <a:t>(along with a rubric)</a:t>
              </a:r>
              <a:r>
                <a:rPr b="1" lang="en-US" sz="2000" spc="-1" strike="noStrike">
                  <a:solidFill>
                    <a:srgbClr val="991827"/>
                  </a:solidFill>
                  <a:latin typeface="Times New Roman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90720" y="1143000"/>
              <a:ext cx="24350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century sk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0720" y="1143000"/>
              <a:ext cx="7010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90720" y="1903320"/>
              <a:ext cx="7010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90720" y="3333600"/>
              <a:ext cx="7010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4824360"/>
              <a:ext cx="7010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90720" y="5584680"/>
              <a:ext cx="7010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0720" y="1143000"/>
              <a:ext cx="1440" cy="444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25760" y="1143000"/>
              <a:ext cx="1800" cy="44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01000" y="1143000"/>
              <a:ext cx="1440" cy="444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Examining th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38862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37160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Review of Sample Rubrics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ollab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a Bauer</dc:creator>
  <dc:description/>
  <dc:language>en-US</dc:language>
  <cp:lastModifiedBy>David Ross</cp:lastModifiedBy>
  <cp:revision>0</cp:revision>
  <dc:subject/>
  <dc:title>PowerPoint Presentation  -  Title Here</dc:title>
</cp:coreProperties>
</file>